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627B-13E5-404D-B239-150F8B0BE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691-086B-4F1B-AD17-9E829757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14C-D7BA-4E1E-B667-3622E0B7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8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8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2D4-8793-4483-890E-8CEAB25F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3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6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3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6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523-C6E0-41A9-9B46-4F603031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1E3-52F1-4C6B-BC24-A74E63D6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734-66BD-4C72-BBAC-DD1A34C9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8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EE4-073F-46DC-B408-345EA959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9674-B0C5-4EE8-ACB6-71D51A11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221-D0E3-457D-9971-4D835E86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8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8C8-E7D0-42EB-8197-771266E7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8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8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744-3BA9-406E-A5EE-F4FE637B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8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04E-5A6A-4DE7-B7A3-907784B2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845C-8EB8-4E80-968E-1FC8A35C5C62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344320"/>
            <a:ext cx="777384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Cap. 5 </a:t>
            </a: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SECVENTE PSEUDOALEATOARE</a:t>
            </a: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0"/>
            <a:ext cx="74865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ffff"/>
                </a:solidFill>
                <a:latin typeface="Times New Roman"/>
              </a:rPr>
              <a:t>Sisteme CDM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 Implementarea generatoarelor de secvenţă pseudoaleatoare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 Modalitati de implementare.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e polinomul generator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35280" y="1700280"/>
                <a:ext cx="4824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253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2235240"/>
          <a:ext cx="576108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235240"/>
                    <a:ext cx="576108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227640" y="3141720"/>
            <a:ext cx="226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Fig. 5.1. Structura SSRG – </a:t>
            </a:r>
            <a:r>
              <a:rPr b="0" i="1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Fibonacci</a:t>
            </a:r>
            <a:r>
              <a:rPr b="0" i="1" lang="en-GB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(in configuratie simpl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9640" y="4145040"/>
          <a:ext cx="5688000" cy="149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4145040"/>
                    <a:ext cx="568800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257520" y="4989960"/>
            <a:ext cx="207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Fig. 5.2. Structura MSRG 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Galois</a:t>
            </a:r>
            <a:r>
              <a:rPr b="0" i="1" lang="en-GB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(in configuratie modular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Implementarea generatoarelor de secvenţă pseudoaleatoare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 Modalitati de implementare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Times New Roman"/>
              </a:rPr>
              <a:t>Observaţii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Chiar dacă ambele structuri generează aceeaşi secvenţă pseudoaleatoare, cea în configuraţie modulară (</a:t>
            </a:r>
            <a:r>
              <a:rPr b="0" lang="ro-RO" sz="2000" spc="-1" strike="noStrike">
                <a:solidFill>
                  <a:srgbClr val="333399"/>
                </a:solidFill>
                <a:latin typeface="Times New Roman"/>
              </a:rPr>
              <a:t>MSRG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) generează </a:t>
            </a:r>
            <a:r>
              <a:rPr b="0" lang="ro-RO" sz="2000" spc="-1" strike="noStrike">
                <a:solidFill>
                  <a:srgbClr val="333399"/>
                </a:solidFill>
                <a:latin typeface="Times New Roman"/>
              </a:rPr>
              <a:t>puteri succesiv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ale vectorului stare iniţială în timp ce structura în configuraţie simplă (</a:t>
            </a:r>
            <a:r>
              <a:rPr b="0" lang="ro-RO" sz="2000" spc="-1" strike="noStrike">
                <a:solidFill>
                  <a:srgbClr val="333399"/>
                </a:solidFill>
                <a:latin typeface="Times New Roman"/>
              </a:rPr>
              <a:t>SSRG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) generează elementele GF(2</a:t>
            </a:r>
            <a:r>
              <a:rPr b="0" lang="ro-RO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) într-o </a:t>
            </a:r>
            <a:r>
              <a:rPr b="0" lang="ro-RO" sz="2000" spc="-1" strike="noStrike">
                <a:solidFill>
                  <a:srgbClr val="333399"/>
                </a:solidFill>
                <a:latin typeface="Times New Roman"/>
              </a:rPr>
              <a:t>ordine arbitrară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tructura simplă (</a:t>
            </a:r>
            <a:r>
              <a:rPr b="0" lang="ro-RO" sz="2000" spc="-1" strike="noStrike">
                <a:solidFill>
                  <a:srgbClr val="333399"/>
                </a:solidFill>
                <a:latin typeface="Times New Roman"/>
              </a:rPr>
              <a:t>SSRG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) este folosită în multe aplicaţii deoarece este mai </a:t>
            </a:r>
            <a:r>
              <a:rPr b="0" lang="ro-RO" sz="2000" spc="-1" strike="noStrike">
                <a:solidFill>
                  <a:srgbClr val="333399"/>
                </a:solidFill>
                <a:latin typeface="Times New Roman"/>
              </a:rPr>
              <a:t>simplă din punct de vedere constructiv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, realizându-se cu un registru serial simplu. Cu toate acestea, structura modulară (</a:t>
            </a:r>
            <a:r>
              <a:rPr b="0" lang="ro-RO" sz="2000" spc="-1" strike="noStrike">
                <a:solidFill>
                  <a:srgbClr val="333399"/>
                </a:solidFill>
                <a:latin typeface="Times New Roman"/>
              </a:rPr>
              <a:t>MSRG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) poate funcţiona la </a:t>
            </a:r>
            <a:r>
              <a:rPr b="0" lang="ro-RO" sz="2000" spc="-1" strike="noStrike">
                <a:solidFill>
                  <a:srgbClr val="333399"/>
                </a:solidFill>
                <a:latin typeface="Times New Roman"/>
              </a:rPr>
              <a:t>viteze mai mari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decât cea simplă (între doi bistabili nu se găsesc decăt un sumator, astfel că întârzierile de propagare sunt cele mai mici posibile). </a:t>
            </a: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Implementarea generatoarelor de secvenţă pseudoaleatoare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Modalitati de implementare.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mplementarea unui polinom în structură simplă (SSRG) este echivalentă cu implementarea polinomului reciproc în configuraţie modulară (MSRG) în sensul că cele două structuri generează </a:t>
            </a:r>
            <a:r>
              <a:rPr b="0" lang="ro-RO" sz="2000" spc="-1" strike="noStrike">
                <a:solidFill>
                  <a:srgbClr val="333399"/>
                </a:solidFill>
                <a:latin typeface="Times New Roman"/>
              </a:rPr>
              <a:t>aceeaşi secvenţă pseudoaleatoa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În cazul implementării folosind structura SSRG ieşirea poate fi luată din orice celulă a registrului de deplasare, deoarece acestea sunt versiuni decalate ale secvenţei de ieşire; acest lucru n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mai este valabil în cazul structurii MSRG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Implementarea generatoarelor de secvenţă pseudoaleatoare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Modalitati de implementare.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crierea matematica a functionarii SSRG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411280" y="2133720"/>
                <a:ext cx="417672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8000" y="3716280"/>
                <a:ext cx="51850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RG</m:t>
                        </m:r>
                      </m:sub>
                    </m:sSub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RG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RG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484360" y="4221000"/>
                <a:ext cx="4038840" cy="206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RG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Implementarea generatoarelor de secvenţă pseudoaleatoare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Modalitati de implementare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crierea matematica a functionarii MSRG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132000" y="2046240"/>
                <a:ext cx="259236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50920" y="3789360"/>
                <a:ext cx="45370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SRG</m:t>
                        </m:r>
                      </m:sub>
                    </m:sSub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SRG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SRG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bSup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348000" y="4349880"/>
                <a:ext cx="251928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SRG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Implementarea generatoarelor de secvenţă pseudoaleatoare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Modalitati de implementare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emplu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1773360"/>
                <a:ext cx="151128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174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87280" y="2133720"/>
          <a:ext cx="2874960" cy="146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2133720"/>
                    <a:ext cx="287496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275720" y="2975760"/>
            <a:ext cx="59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356000" y="2349360"/>
          <a:ext cx="30765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2349360"/>
                    <a:ext cx="30765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461120" y="4822200"/>
            <a:ext cx="221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19280" y="3716280"/>
                <a:ext cx="18730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76720" y="3716280"/>
                <a:ext cx="187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92360" y="4724280"/>
                <a:ext cx="14396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RG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48360" y="4724280"/>
                <a:ext cx="14396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SRG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Implementarea generatoarelor de secvenţă pseudoaleatoare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 Dependenta de conditiile initiale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cventa generata 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 poate arata 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(D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inde de starea initila a registrului de deplas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t SS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t MSR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348000" y="1700280"/>
                <a:ext cx="287964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348000" y="2133720"/>
                <a:ext cx="38880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11280" y="2765520"/>
                <a:ext cx="4105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771640" y="3933720"/>
                <a:ext cx="2808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627280" y="4437000"/>
                <a:ext cx="34574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r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ad</m:t>
                        </m:r>
                        <m:r>
                          <m:t xml:space="preserve">&lt;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00360" y="5229360"/>
                <a:ext cx="33861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Implementarea generatoarelor de secvenţă pseudoaleatoare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Dependenta de conditiile initiale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emp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)   SSRG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268360" y="1730520"/>
                <a:ext cx="1582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427640" y="1700280"/>
                <a:ext cx="23637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00</m:t>
                        </m:r>
                      </m:e>
                    </m:d>
                    <m:r>
                      <m:t xml:space="preserve"> 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050920" y="2211480"/>
                <a:ext cx="6553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d</m:t>
                        </m:r>
                        <m:r>
                          <m:t xml:space="preserve">&lt;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d</m:t>
                        </m:r>
                        <m:r>
                          <m:t xml:space="preserve">&lt;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050920" y="2708280"/>
                <a:ext cx="5689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⇔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10011111000110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26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050920" y="3970440"/>
          <a:ext cx="3961080" cy="9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3970440"/>
                    <a:ext cx="39610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2202480" y="5229000"/>
            <a:ext cx="260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Fig. 5.5. Implementarea SSRG a secvenţe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16360" y="5157720"/>
                <a:ext cx="800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Implementarea generatoarelor de secvenţă pseudoaleatoare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Dependenta de conditiile initiale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SRG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556000" y="1700280"/>
                <a:ext cx="367164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27280" y="2133720"/>
                <a:ext cx="51847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⇔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011011101010000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267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556000" y="3160800"/>
          <a:ext cx="410364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3160800"/>
                    <a:ext cx="41036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706840" y="4292280"/>
            <a:ext cx="26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Fig. 5.6. Implementarea MSRG a secvenţe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364000" y="4221000"/>
                <a:ext cx="7905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3. 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Implementarea generatoarelor de secvenţă pseudoaleatoare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Utilizarea mastilor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ca starea initiala este starea de referinta [1 0 0 ….], atu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SRG: pentru a genera o secventa generata cu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pozitii fata de 1/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se utilizeaza mas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SRG: pentru a genera o secventa generata cu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pozitii fata de 1/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se utilizeaza mas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564000" y="2708280"/>
                <a:ext cx="2087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579840" y="3933720"/>
                <a:ext cx="270504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mod</m:t>
                                </m:r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r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ad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losite pentru amestecare / imprastierea datelo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riet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funcţia de autocorelaţie trebuie să aibă un număr cât mai scăzut de niveluri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funcţia de intercorelaţie cu alte secvenţe din acelaşi set trebuie să aibă, în medie, valoarea cât mai redus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densitatea spectrală medie de putere trebuie să ocupe o bandă de frecvenţe cât mai larg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generatorul trebuie să poată fi implementat cu o structură cât mai simplă, care să poată fi reprodusă la recepţi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perioada de repetiţie trebuie să fie cât mai mare pentru a putea fi mai greu de interceptat de către utilizatorii nedoriţ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3. 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Implementarea generatoarelor de secvenţă pseudoaleatoare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Utilizarea mastilor.</a:t>
            </a:r>
            <a:r>
              <a:rPr b="1" lang="ro-RO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emplu                                                        intarziere 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terv de 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SRG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S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68360" y="1773360"/>
                <a:ext cx="13687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995640" y="1739880"/>
                <a:ext cx="151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124000" y="2421000"/>
                <a:ext cx="6048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5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od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</m:e>
                                </m:d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⇔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771640" y="3500280"/>
                <a:ext cx="3568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3. 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Implementarea generatoarelor de secvenţă pseudoaleatoare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Utilizarea mastilor.</a:t>
            </a:r>
            <a:r>
              <a:rPr b="1" lang="ro-RO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ca starea initiala este diferita de cea de referinta [1 0 0 …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SRG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e determină polinomul asociat stării iniţiale a registrului de deplas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e determină valoarea decalajului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fată de secvenţa generată în condiţiile stării iniţiale [100 ...0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 determină polinomul de mascare conform relaţie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ste decalajul dorit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ste numarul de celul el registrului de deplas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771640" y="2852640"/>
                <a:ext cx="374508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d</m:t>
                        </m:r>
                        <m:r>
                          <m:t xml:space="preserve">&lt;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q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987640" y="4653000"/>
                <a:ext cx="27367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3. 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Implementarea generatoarelor de secvenţă pseudoaleatoare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Utilizarea mastilor.</a:t>
            </a:r>
            <a:r>
              <a:rPr b="1" lang="ro-RO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2818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emplu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starea initiala [1001]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4; decalaj dori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10 fata de secventa de referi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 determ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 determina decalajul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oresepunz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 determina polinomul de mascare asociat unui decalaj relativ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908000" y="1701720"/>
                <a:ext cx="136872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187280" y="2708280"/>
                <a:ext cx="6840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d</m:t>
                        </m:r>
                        <m:r>
                          <m:t xml:space="preserve">&lt;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d</m:t>
                        </m:r>
                        <m:r>
                          <m:t xml:space="preserve">&lt;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332000" y="3645000"/>
                <a:ext cx="56163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843280" y="4941720"/>
                <a:ext cx="345744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835280" y="5373720"/>
                <a:ext cx="5976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⇔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3. 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Implementarea generatoarelor de secvenţă pseudoaleatoare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Utilizarea mastilor.</a:t>
            </a:r>
            <a:r>
              <a:rPr b="1" lang="ro-RO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03640" y="1916280"/>
          <a:ext cx="4248000" cy="16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1916280"/>
                    <a:ext cx="424800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2176560" y="3854520"/>
            <a:ext cx="4843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Fig. 5.9. Generatorul SSRG şi masca asociată pentru implementarea unui decalaj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i="1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r>
              <a:rPr b="0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=10 unităţi de chip faţă de secvenţa de referinţă, când stare iniţială este [1001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3. 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Implementarea generatoarelor de secvenţă pseudoaleatoare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Utilizarea mastilor.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SRG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e determină polinomul asociat stării iniţiale a registrului de deplas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e determină valoarea decalajului q fată de secvenţa generată în condiţiile stării iniţiale [100 ..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 determină polinomul de mascare conform relaţi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decalajul dorit;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r celule al registrului de deplas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564000" y="2492280"/>
                <a:ext cx="14396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492360" y="3860640"/>
                <a:ext cx="187164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q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348000" y="4869000"/>
                <a:ext cx="27367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mod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d</m:t>
                        </m:r>
                        <m:r>
                          <m:t xml:space="preserve">&lt;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3. 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Implementarea generatoarelor de secvenţă pseudoaleatoare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Utilizarea mastilor.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emplu                              starea initiala [1 0 0 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e determină polinomul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o-RO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 cu ajutorul relaţie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rametrul asociat mastii e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e determină polinomul de mascare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 pentru a obţine un decalaj relativ de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268360" y="1700280"/>
                <a:ext cx="167652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116000" y="2708280"/>
                <a:ext cx="74264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187280" y="4221000"/>
                <a:ext cx="36720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419640" y="5084640"/>
                <a:ext cx="19443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2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3. 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Implementarea generatoarelor de secvenţă pseudoaleatoare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Utilizarea mastilor.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-842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476360" y="1773360"/>
                <a:ext cx="61912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76360" y="2492280"/>
                <a:ext cx="39607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d</m:t>
                        </m:r>
                        <m:r>
                          <m:t xml:space="preserve">&lt;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⇔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556000" y="3243240"/>
          <a:ext cx="40320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3243240"/>
                    <a:ext cx="4032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2108880" y="4797000"/>
            <a:ext cx="516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Fig. 5.12. Generatorul MSRG şi masca asociată pentru implementarea unui decalaj </a:t>
            </a:r>
            <a:r>
              <a:rPr b="0" i="1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r>
              <a:rPr b="0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=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3. Secvente maximale 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nctia discreta de autocorel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o-RO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este numărul de poziţii în care codul şi varianta lui deplasată cu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poziţii coincid (respectiv numărul de "0" din suma modulo 2 a celor două coduri), iar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ro-RO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este numărul de poziţii în care cele două coduri nu coincid (respectiv numărul de "1" din suma modulo 2 a celor două coduri).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nctia de autocorel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916360" y="2060640"/>
                <a:ext cx="28080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limLow>
                      <m:e>
                        <m:limUpp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lim>
                        </m:limUp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m=0</m:t>
                        </m:r>
                      </m:lim>
                    </m:limLow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427640" y="3860640"/>
                <a:ext cx="23050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limLow>
                      <m:e>
                        <m:limUp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T</m:t>
                            </m:r>
                          </m:lim>
                        </m:limUpp>
                      </m:e>
                      <m:lim>
                        <m:r>
                          <m:t xml:space="preserve">0</m:t>
                        </m:r>
                      </m:lim>
                    </m:limLow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-</m:t>
                        </m:r>
                        <m:r>
                          <m:t xml:space="preserve">τ</m:t>
                        </m:r>
                      </m:e>
                    </m:d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916360" y="4724280"/>
                <a:ext cx="2950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=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f>
                          <m:num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ε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+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3. Secvente maximale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Proprietatea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. O secvenţă maximală conţine un număr de simboluri "1" egal cu (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+1)/2 şi, respectiv,  un număr de simboluri "0" egale cu (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1)/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Proprietatea 2.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Suma modulo 2 dintre o secvenţă de lungime maximă şi o variantă deplasată ca fază a acesteia este de asemenea o variantă deplasată a secvenţei origin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Proprietatea 3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. Dacă o fereastră care conţine n poziţii din cod este deplasată de-a lungul întregii lungimi a acestuia, fiecare combinaţie de "1" şi "0" (cu excepţia celei formate din n zerouri) apare o singură dat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Proprietatea 4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. Funcţia periodică de autocorelaţie a secvenţei are numai două valori, fiind dată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203640" y="4923000"/>
                <a:ext cx="2305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=  </m:t>
                    </m:r>
                    <m:d>
                      <m:dPr>
                        <m:begChr m:val="{"/>
                        <m:endChr m:val=""/>
                      </m:dPr>
                      <m:e>
                        <m:eqAr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  k=lN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;  k</m:t>
                            </m:r>
                            <m:r>
                              <m:t xml:space="preserve">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e>
                        </m:eqAr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3. Secvente maximale</a:t>
            </a:r>
            <a:endParaRPr b="1" lang="en-US" sz="2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fectuand calculele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332000" y="2205000"/>
                <a:ext cx="619272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eqAr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τ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;  </m:t>
                            </m:r>
                            <m:r>
                              <m:t xml:space="preserve">|</m:t>
                            </m:r>
                            <m:r>
                              <m:t xml:space="preserve">τ</m:t>
                            </m:r>
                            <m:r>
                              <m:t xml:space="preserve">|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  </m:t>
                            </m:r>
                            <m:r>
                              <m:t xml:space="preserve">|</m:t>
                            </m:r>
                            <m:r>
                              <m:t xml:space="preserve">τ</m:t>
                            </m:r>
                            <m:r>
                              <m:t xml:space="preserve">|</m:t>
                            </m:r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eqArr>
                      </m:e>
                    </m:d>
                    <m:r>
                      <m:t xml:space="preserve">⇒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  <m:r>
                      <m:t xml:space="preserve">⇒</m:t>
                    </m:r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eqAr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|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|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  ;  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&lt;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0      ;  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&gt;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eqAr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= 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0" y="247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835280" y="3573360"/>
          <a:ext cx="5041800" cy="178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3573360"/>
                    <a:ext cx="50418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079080" y="5660640"/>
            <a:ext cx="296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Fig. 5.13. Funcţia de autocorelaţie a codurilor P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5.1. Reprezentarea ca elemente ale campurilot Galois extinse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onsiderând un set format din M element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2, .... 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</a:rPr>
              <a:t>xM</a:t>
            </a:r>
            <a:r>
              <a:rPr b="0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, câmpul finit asociat se construieşte pornind de la cele două operaţii de bază, adunarea şi înmulţirea, precum şi a unui set de reguli ce trebuie respectat, şi anum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adunarea şi multiplicarea oricăror două elemente din S trebuie să fie de asemenea un element din 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atât adunarea cât şi înmulţirea sunt comutativ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atât adunarea cât şi înmulţirea sunt asociative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înmulţirea este distributivă faţă de aduna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796000" y="3789360"/>
                <a:ext cx="24480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724360" y="4221000"/>
                <a:ext cx="2664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867280" y="5157720"/>
                <a:ext cx="23050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3. Secvente maximale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nsitatea spectrala medie de put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496880" y="2087640"/>
                <a:ext cx="65106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4. Coduri Gold 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e porneşte de la o secvenţă maximală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, reprezentată numeric printr-un vector c de lungime egală cu perioada codului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şi de la o a doua secvenţă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 obţinută din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prin extragerea fiecărui al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lea simbol (decimare cu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um decimarea unei secvenţe maximale nu duce neapărat la o altă secvenţă maximală, spunem că decimarea s-a făcut în mod "propriu" dacă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 este de asemenea o secvenţă maximal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e poate demonstra că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 este o secvenţă maximală cu perioada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dacă şi numai dacă cel mai mare divizor comun al lui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este 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Mai mult, se poate demonstra că decimarea "proprie" cu valori impare ale lui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va determina toate secvenţele maximale de lungime dată ce pot fi genera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Deci, pentru orice pereche de secvenţe maximale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1 există un număr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astfel încânt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1 se poate obţine din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prin decimare cu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1=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4. Coduri Gold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nctia de intercorelatie poate lua 3 valo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987640" y="2205000"/>
                <a:ext cx="2952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843280" y="3213000"/>
                <a:ext cx="338436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f>
                                  <m:num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4. Coduri Gold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 poate arăta că secvenţele c şi c' reprezintă o pereche preferată dacă şi numai dacă sunt îndeplinite următoarele condiţii:</a:t>
            </a: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0 (mod 4), ceea ce se traduce prin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+1 sau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=2 (mod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'= c(q) u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el mai mare divizor comun al lui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este 1 dacă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= impar, respectiv 2 dacă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=pa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Fie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, respectiv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'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, polinoamele asociate unei perechi de polinoame preferate cu perioada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1. Familia de coduri dată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'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'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'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+D2c'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,.....,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'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poartă numele de set de coduri Gold asociată perechii preferate </a:t>
            </a:r>
            <a:r>
              <a:rPr b="0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'(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276720" y="2781360"/>
                <a:ext cx="13665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276720" y="3068640"/>
                <a:ext cx="86508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276720" y="3429000"/>
                <a:ext cx="129672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4. Coduri Gold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emplu: pornind de la codul PN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        de grad 5, perioda 31, decimat cu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q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500720" y="1773360"/>
                <a:ext cx="142380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2277000" y="2420280"/>
            <a:ext cx="44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=[000010010110011111000110111010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77360" y="2780640"/>
            <a:ext cx="47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3)=[000011001001111101110001010110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53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692360" y="3213000"/>
          <a:ext cx="5616360" cy="16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3213000"/>
                    <a:ext cx="5616360" cy="16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3342600" y="5013000"/>
            <a:ext cx="21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Fig.5.17. Generator de coduri Go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6. EXEMPLE DE SECVENŢE PSEUDOALEATOARE FOLOSITE ÎN IS-95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dul PN lung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692360" y="2133720"/>
                <a:ext cx="5472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0" y="23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908000" y="2852640"/>
          <a:ext cx="5112000" cy="231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2852640"/>
                    <a:ext cx="511200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2908800" y="5300280"/>
            <a:ext cx="3097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Fig. 5.18. Generatorul MSRG pentru codul PN 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6. EXEMPLE DE SECVENŢE PSEUDOALEATOARE FOLOSITE ÎN IS-95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s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</a:rPr>
              <a:t>ACN = numărul canalului de acces (Acces Channel Number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</a:rPr>
              <a:t>PCN = numărul canalului de paging (Paging Channel Number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</a:rPr>
              <a:t>Base_ID = identificarea staţiei de bază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</a:rPr>
              <a:t>PILOT_PN = offsetul codului PN pentru canalul CDMA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</a:rPr>
              <a:t>ESN = numărul serial electronic (Electronic Serial Number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700360" y="1700280"/>
          <a:ext cx="4967280" cy="187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700280"/>
                    <a:ext cx="49672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2902680" y="3645000"/>
            <a:ext cx="4394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Fig. 5.19. Structura măştilor folosite pentru codul PN lung pentru canale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de acces (a), trafic (b) şi paging (c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3399"/>
                </a:solidFill>
                <a:latin typeface="Times New Roman"/>
              </a:rPr>
              <a:t>5.6. EXEMPLE DE SECVENŢE PSEUDOALEATOARE FOLOSITE ÎN IS-95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durile PN scurte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492360" y="1773360"/>
                <a:ext cx="33847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492360" y="2193840"/>
                <a:ext cx="4175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0" y="257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411280" y="2608200"/>
          <a:ext cx="5185080" cy="161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608200"/>
                    <a:ext cx="518508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3119040" y="4365360"/>
            <a:ext cx="350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Fig. 5.20. Implementarea MSRG pentru codurile PN scur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5.1. Reprezentarea ca elemente ale campurilot Galois extins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tul trebuie să includă elementul neutru faţă de adunare : elementul nul "0"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tul trebuie să conţină elementul invers faţă de operaţia de adunare pentru fiecare element al său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tul trebuie să includă elementul neutru faţă de înmulţire: elementul unitate "1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tul trebuie să conţină elementul invers faţă de operaţia de înmulţire pentru fiecare element al să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995640" y="2060640"/>
                <a:ext cx="1008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627280" y="2997360"/>
                <a:ext cx="38894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∈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stfe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cat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067280" y="4005360"/>
                <a:ext cx="792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987640" y="5157720"/>
                <a:ext cx="36003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∃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∈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stfe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cat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imes New Roman"/>
              </a:rPr>
              <a:t>5.1. Reprezentarea ca elemente ale campurilot Galois extins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 poate arăta că orice set de numere întregi {0,1,2, ... ,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}, unde p este număr prim, împreună cu operaţiile de adunare şi înmulţire modulo p, formează o structură de câm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Câmpul cu proprietăţile de mai sus poartă numele de câmp pri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Dacă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o-RO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= număr prim, câmpul poartă numele de câmp prim extins sau câmp Galois, notat GF(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o-RO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5.1. Reprezentarea ca elemente ale campurilot Galois extinse. Polinoame primitiv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tap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 alege un polinom ireductib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 determină rădăcinile acestu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cele 2</a:t>
            </a:r>
            <a:r>
              <a:rPr b="0" lang="ro-RO" sz="2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elemente ale lui GF(2</a:t>
            </a:r>
            <a:r>
              <a:rPr b="0" lang="ro-RO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) sunt date de puterile succesive ale lui </a:t>
            </a:r>
            <a:r>
              <a:rPr b="0" i="1" lang="ro-RO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Polinomul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), unde cu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reprezintă operatorul de întârziere, se numeşte polinom generator al câmpului GF(2</a:t>
            </a:r>
            <a:r>
              <a:rPr b="0" i="1" lang="ro-RO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).  Se observă că elementele neutre fată de adunare, (‘0’), şi înmulţire, (‘1’), sunt incluse în câmpul vectorial extins.</a:t>
            </a: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627280" y="2349360"/>
                <a:ext cx="46436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G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217520" y="3317760"/>
                <a:ext cx="7531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924360" y="4221000"/>
                <a:ext cx="180000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5.1. Reprezentarea ca elemente ale campurilot Galois extinse. Polinoame primitiv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ratiile definite in acest camp vectorial s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multire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unarea: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inând seama de faptul că pentru orice m,k &gt; n se poate folosi reprezentarea polinomială, adunarea a două puteri se poate efectua adunând coeficienţii corespunzători aceleiaşi puteri, astf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492360" y="2205000"/>
                <a:ext cx="18716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547640" y="3789360"/>
                <a:ext cx="63374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5.1. Reprezentarea ca elemente ale campurilot Galois extinse. Polinoame primitiv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5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emplu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 alege polinomul irdeuctibil de grad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 determina radacinile acestu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 determina cel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o-RO" sz="1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=8 elemente ale câmpului extins GF(23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219640" y="1844640"/>
                <a:ext cx="1944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292720" y="2349360"/>
                <a:ext cx="15843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268360" y="2708280"/>
                <a:ext cx="4749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63640" y="3933720"/>
            <a:ext cx="5329440" cy="2295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5.1. Reprezentarea ca elemente ale campurilot Galois extinse. Polinoame reciproce / ireductibil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Fie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) polinomul ireductibil de grad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, generator al câmpului GF(2</a:t>
            </a:r>
            <a:r>
              <a:rPr b="0" i="1" lang="ro-RO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Polinomul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reciproc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l acestuia se determină astf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reprezentare vectoria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132000" y="2133720"/>
                <a:ext cx="3024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2852640"/>
                <a:ext cx="7704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3573360"/>
                <a:ext cx="33130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⇔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⇔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08:44:07Z</dcterms:created>
  <dc:creator>www.RegieLive.ro</dc:creator>
  <dc:description/>
  <dc:language>en-US</dc:language>
  <cp:lastModifiedBy>oct</cp:lastModifiedBy>
  <cp:lastPrinted>2005-09-22T17:06:13Z</cp:lastPrinted>
  <dcterms:modified xsi:type="dcterms:W3CDTF">2005-12-06T09:44:59Z</dcterms:modified>
  <cp:revision>177</cp:revision>
  <dc:subject/>
  <dc:title>CDMA</dc:title>
</cp:coreProperties>
</file>