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842-F7FD-4BD8-8BDE-A9A0F32A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37F-AD23-4D0F-BDBB-EF330EE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5BA-86E3-4EBF-B9C5-98D4ADDB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3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3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A7B-E9C7-4216-90B2-54FF252C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6C1-DF90-4276-9785-C125FD67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6B1-4723-4127-B5EF-73710E2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176-7C0A-4A5A-A2C7-B0FFE60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D50-821F-49C6-847B-6D04169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929-33C5-48D4-8BE7-9E731A6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C3D-536E-49D1-9C4C-E5C8B9E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725-A9F8-4A03-84B4-DBA6746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23D-C628-4C84-9111-6E08F691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EC7-CE5A-4380-977E-D04FAFA714DB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4320"/>
            <a:ext cx="777384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CUPRINS </a:t>
            </a: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0"/>
            <a:ext cx="74865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Times New Roman"/>
              </a:rPr>
              <a:t>Sisteme CDM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5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ecvenţe pseudoaleato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1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Reprezentarea ca elemente ale câmpurilor Galois exti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1.1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Câmpuri Gal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1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olinoame 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1.3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olinoame reciproce şi tabele de polinoame ireduc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2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Implementarea generatoarelor de secvenţă pseudoaleato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2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odalităţi de implementare şi reprezentarea matriceală în spaţiul stăr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2.2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pendenţa secvenţei generate de condiţiile iniţiale ale registrului de deplas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2.3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Utilizarea măştilor pentru a obţine la ieşire o anumită fază a secvenţei 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. Secvenţe maximale (M-sequ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3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uncţia de autocorelaţie a secvenţelor perio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3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oprietăţile secvenţelor maxi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3.3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Funcţia de autocorelaţie şi densitatea spectrală de putere a unei secvenţe  maxi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3.4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Proprietăţi de corelaţie parţiale ale secvenţelor maxi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3.5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nsitatea spectrală medie de putere a produsului dintre o secvenţă PN şi varianta decalată a acest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4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5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Ka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.6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Exemple de secvenţe pseudoaleatoare folosite în IS-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6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Coduri bloc şi cic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.1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apacitatea canalului de comunicaţ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1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finiţia capacităţii canalului de comunica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1.2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pacitatea canalelor discrete fără mem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.2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bloc lini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2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atricea generatoare a codului. Coduri sistema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2.2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Matricea de verificare a parităţii şi codul 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2.3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nceptul de sindrom şi detecţia eror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2.4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stanţa Hamming şi proprietăţile de corecţie ale cod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2.5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codarea pe baza sindromului şi a tabelei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.3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cic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3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atricea generatoare şi matricea de verificare a parităţii. Codul 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3.2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darea în cazul codurilor cic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3.3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lcului sindromului şi detecţia erori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3.4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codarea codurilor cic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.4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Aplicaţii ale codurilor bloc în sistemul IS-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4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dicatori de calitate pentru structura cadrelor şi a mesajelor legăturii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.4.2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Indicatorii de calitate pentru canalele legăturii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7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Coduri Convoluţion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.1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Definiţii; Metode de generar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1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acteristici. Modul de genera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1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codorului pe baza polinoamelor generatoa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1.3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codorului prin diagrama de tranziţie a stăr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1.4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codoarelor prin diagrama trel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1.5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codoarelor prin diagrama arb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7.2.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Decodarea codurilor convoluţ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7.3. 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Funcţiile de transfer asociate codurilor convoluţ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7.3.1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.  Proprietăţi legate de distanţa dintre cuvintele de cod la codurile convoluţ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7.3.2.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 Funcţiile de transfer asociate codurilor convoluţ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1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Tehnici de acces multipl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.  Moduri de realizare a transmisiunilor du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.2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odalităţi clasice de realizare a accesului multiplu în comunicaţiile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 Sistemele de comunicaţii mobile de bandă larg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3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aracteristicile şi parametrii sistemelor F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aracteristicile şi parametrii sistemelor T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.4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Algoritmul Viter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4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codarea hard a secvenţei recepţi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4.2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codarea folosind decizia 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4.3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plementarea decodorului ce foloseşte algoritmul Viterb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.4.4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obabilitatea de ero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.5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convoluţionale cu performanţe ri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.6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Coduri convoluţionale utilizate în IS-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7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Coduri Turb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.1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Introduc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.2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odorul tur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.3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ehnicile de înteţes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.4.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Decodarea codurilor turb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 DEFINITII. METODE DE GENERARE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5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aracteristicile şi parametrii sistemelor 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6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apacitatea sistemelor FDMA, TDMA şi 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.7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Sisteme de acces multiplu folosind transmisia radio în pachete (Packet Radio – P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.7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O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.7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2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isteme de comunicaţie cu Spectru Împrăşt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Caracteristici şi parametr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Sisteme cu spectru împrăştiat de tip Secvenţă Direct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2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emnale cu spectru împrăştiat de tip secvenţă directă cu modulaţie BPSK (BPSK-DS-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2.2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Semnale cu spectru împrăştiat de tip secvenţă directă cu modulaţie în cuadratură (QPSK – DS – 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.3.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emnale cu spectru împrăştiat de tip Salt de Frecven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3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emnale cu spectru împrăştiat de tip salt de frecvenţă lent (SF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3.2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Semnale cu spectru împrăştiat de tip salt de frecvenţă rapid (FF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.4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Semnale cu spectru împrăştiat cu salt în timp. semnale cu bandă ultra-largă (UW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4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semnalului U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4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miţătorul UWB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Receptorul U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3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isteme de referinţă de tip CD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3.1.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Introduc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3.2.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istemul IS-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2.1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ordonarea frecvenţei şi a timp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2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legăturii descendent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2.3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legăturii ascen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3.3.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isteme de generaţia a II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3.1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roducere. Caracterist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3.2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legăturii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3.3.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scrierea legăturii ascendent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3.4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mparaţie între CDMA2000 şi IS-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3.5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mparaţie între CDMA2000 şi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Capitolul 4.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Coduri Walsh şi derivatele aces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.1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Introduc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Definirea şi proprietăţile funcţiilor Wal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.3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Generarea funcţiilor Wal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3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Generarea funcţiilor Walsh folosind matricile Hadam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3.2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Generarea funcţiilor Walsh cu ajutorul funcţiilor Radem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3.3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Generarea funcţiilor Walsh utilizând vectorii baz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7.1.1. Descrierea codorului pe baza polinoamlor generatoa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Funcţiile Walsh folosite în sistemul IS-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4.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uncţii Walsh folosite pentru legătura descenden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4.2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uncţii Walsh folosite pentru legătura ascenden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.5.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Funcţiile Walsh folosite în sistemul CDMA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8:44:07Z</dcterms:created>
  <dc:creator>www.RegieLive.ro</dc:creator>
  <dc:description/>
  <dc:language>en-US</dc:language>
  <cp:lastModifiedBy>Octavian</cp:lastModifiedBy>
  <cp:lastPrinted>2005-09-22T17:06:13Z</cp:lastPrinted>
  <dcterms:modified xsi:type="dcterms:W3CDTF">2007-10-03T18:46:39Z</dcterms:modified>
  <cp:revision>255</cp:revision>
  <dc:subject/>
  <dc:title>CDMA</dc:title>
</cp:coreProperties>
</file>